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43D-B3E5-41AA-8E21-93B9C42B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ADE-8F9E-4D8D-AEE8-08DE11BE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357-17FD-4B6A-B41D-0C79EE461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873-5163-41B4-AB07-A1890706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559-7269-441C-8AD7-553D3FFC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30FB-BF05-4AFF-9B13-2898D6E3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031E-4E34-4E37-8748-B4739C89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AA16-B4B7-43A8-A232-8DECD183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16E-D7F8-4417-925E-B1BF45B9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60C-C484-4DD6-B662-E70006C6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D6C-D1E4-42F7-9020-93D5A7BB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57F-8786-4040-A666-17C0866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F448-4C5C-4A78-8214-027DA4F73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eorology Pre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type your answers onto a document in Microsoft Word, then post them to the wi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 the following layers of the atmosphere in order from lowest to highest altit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hermosphere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osphere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opospher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sosphere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Times New Roman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of the following makes up more than 1% of the atmosp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Hydro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Times New Roman"/>
              </a:rPr>
              <a:t>B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Hel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Arg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5410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a type of Continental Polar (cP) air m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A warm air mass from the Bah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An air mass from  central Me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d air mass from the North Pa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2d050"/>
                </a:solidFill>
                <a:latin typeface="Times New Roman"/>
              </a:rPr>
              <a:t>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ir mass from central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front is slow-moving and causes lots of precipitation over an extended perio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arm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 cold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 temperate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n occluded fro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picture represents a cumulus clou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33520" y="4915080"/>
            <a:ext cx="2590560" cy="1942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3302280" cy="2203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2867040" cy="215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5629320" y="4730760"/>
            <a:ext cx="2448000" cy="2127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0" y="3505320"/>
            <a:ext cx="457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105520" y="3200400"/>
            <a:ext cx="5331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a hygrometer measu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Hum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99"/>
                </a:solidFill>
                <a:latin typeface="Times New Roman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sundo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An optical illusion which causes two specks of light to appear on either side of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Times New Roman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es the Coriolis effect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Times New Roman"/>
              </a:rPr>
              <a:t>The Coriolis effect is a force which changes direction of winds and objects due to the earth’s r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828800" y="4952880"/>
            <a:ext cx="4343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20:32:36Z</dcterms:created>
  <dc:creator>BPS</dc:creator>
  <dc:description/>
  <dc:language>en-US</dc:language>
  <cp:lastModifiedBy>install</cp:lastModifiedBy>
  <dcterms:modified xsi:type="dcterms:W3CDTF">2010-01-06T20:19:52Z</dcterms:modified>
  <cp:revision>14</cp:revision>
  <dc:subject/>
  <dc:title>Part I</dc:title>
</cp:coreProperties>
</file>